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23D-443E-4E14-AD62-AF404480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B3C-80E8-4F8B-9D66-5BE488E1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234-1C2B-4C56-8717-12892C15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F16-ED2A-421C-8811-5344A5D3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7EF8-D492-4363-BC6C-4B851252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8800-A159-4937-A6A1-85AFF375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465C-2494-4BD7-A314-3997DEFC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51F5-CCBB-45C2-B33A-30EDE8AD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9A56-4F55-410D-8A66-6D57B7C3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9379-5B1C-4F94-AB65-B238B98F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2B56-6784-494E-86D9-AD427170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7F6-3EAB-46D3-B47B-F5FBA02D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85C0-CEF4-4F98-A55C-BB47A3F0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A73D-81B4-47C4-8CE5-900B7C93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0D56-0F64-476A-99A4-0B8EE7D9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4D74-8AFD-4EB6-8CE5-EE31C318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6B26-7F68-4991-AC96-26F5E928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C84-1CE0-455B-B858-48426380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AFA-33D1-4EA1-9429-F4AE3666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715-1854-4318-8CD2-4680D8EE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92D-FD89-49A3-B32F-6D47E498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68F-9776-4B2A-B108-2F6FD19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883-1139-439F-93CF-737BC53A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619-6D04-4683-AF1C-79F4247D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3609-ABED-48EA-B431-51C76342C9D8}" type="slidenum">
              <a:rPr b="0" lang="pt-P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176E-834D-425E-B259-28B551215DB6}" type="slidenum">
              <a:rPr b="0" lang="pt-P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99"/>
                </a:solidFill>
                <a:latin typeface="Tahoma"/>
              </a:rPr>
              <a:t>RELATÓRIO DE TRABALHO NA INHA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3 a 13 de Julho de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33399"/>
                </a:solidFill>
                <a:latin typeface="Tahoma"/>
                <a:ea typeface="宋体"/>
              </a:rPr>
              <a:t>5. Medição de correntes das Marés (Cont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1294920" y="1981080"/>
            <a:ext cx="7011000" cy="4038840"/>
            <a:chOff x="1294920" y="1981080"/>
            <a:chExt cx="7011000" cy="4038840"/>
          </a:xfrm>
        </p:grpSpPr>
        <p:sp>
          <p:nvSpPr>
            <p:cNvPr id="137" name="AutoShape 5"/>
            <p:cNvSpPr/>
            <p:nvPr/>
          </p:nvSpPr>
          <p:spPr>
            <a:xfrm>
              <a:off x="1295280" y="1981080"/>
              <a:ext cx="7010640" cy="40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441080" y="1981080"/>
              <a:ext cx="3482280" cy="38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068080" y="2052360"/>
              <a:ext cx="2945160" cy="38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40" name="Picture 8" descr="100_2772"/>
            <p:cNvPicPr/>
            <p:nvPr/>
          </p:nvPicPr>
          <p:blipFill>
            <a:blip r:embed="rId1"/>
            <a:stretch/>
          </p:blipFill>
          <p:spPr>
            <a:xfrm rot="5400000">
              <a:off x="1053360" y="2222280"/>
              <a:ext cx="4038840" cy="35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9" descr="100_2770"/>
            <p:cNvPicPr/>
            <p:nvPr/>
          </p:nvPicPr>
          <p:blipFill>
            <a:blip r:embed="rId2"/>
            <a:stretch/>
          </p:blipFill>
          <p:spPr>
            <a:xfrm>
              <a:off x="4633200" y="1981080"/>
              <a:ext cx="367236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Line 10"/>
            <p:cNvSpPr/>
            <p:nvPr/>
          </p:nvSpPr>
          <p:spPr>
            <a:xfrm flipH="1">
              <a:off x="3485520" y="2551320"/>
              <a:ext cx="87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4365360" y="240804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800" spc="-1" strike="noStrike">
                  <a:solidFill>
                    <a:srgbClr val="000000"/>
                  </a:solidFill>
                  <a:latin typeface="Arial"/>
                </a:rPr>
                <a:t>Boias de sustentaçao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PT" sz="800" spc="-1" strike="noStrike">
                  <a:solidFill>
                    <a:srgbClr val="000000"/>
                  </a:solidFill>
                  <a:latin typeface="Arial"/>
                </a:rPr>
                <a:t>do correntometro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3057840" y="6172200"/>
            <a:ext cx="28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ante a amracao do 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33399"/>
                </a:solidFill>
                <a:latin typeface="Tahoma"/>
                <a:ea typeface="宋体"/>
              </a:rPr>
              <a:t>5. Medição de correntes das Marés (Cont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250040" cy="3724200"/>
          </a:xfrm>
          <a:prstGeom prst="rect">
            <a:avLst/>
          </a:prstGeom>
          <a:ln w="0">
            <a:noFill/>
          </a:ln>
        </p:spPr>
      </p:pic>
      <p:sp>
        <p:nvSpPr>
          <p:cNvPr id="147" name="Line 6"/>
          <p:cNvSpPr/>
          <p:nvPr/>
        </p:nvSpPr>
        <p:spPr>
          <a:xfrm>
            <a:off x="1981080" y="2362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62600" y="2133720"/>
            <a:ext cx="16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ia de sinalizac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5715000" y="23623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895480" y="2057400"/>
            <a:ext cx="31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ias de sustentacao do 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0"/>
          <p:cNvSpPr/>
          <p:nvPr/>
        </p:nvSpPr>
        <p:spPr>
          <a:xfrm flipH="1">
            <a:off x="6934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7309800" y="403848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2"/>
          <p:cNvSpPr/>
          <p:nvPr/>
        </p:nvSpPr>
        <p:spPr>
          <a:xfrm flipH="1" flipV="1">
            <a:off x="2590560" y="5866920"/>
            <a:ext cx="3809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4"/>
          <p:cNvSpPr/>
          <p:nvPr/>
        </p:nvSpPr>
        <p:spPr>
          <a:xfrm flipH="1" flipV="1">
            <a:off x="5943600" y="59432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6400800" y="609588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ncor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16"/>
          <p:cNvSpPr/>
          <p:nvPr/>
        </p:nvSpPr>
        <p:spPr>
          <a:xfrm flipH="1">
            <a:off x="701028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7548120" y="44197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222280" y="6400800"/>
            <a:ext cx="425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 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figura ilustra o esquema de amaracao do 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20"/>
          <p:cNvSpPr/>
          <p:nvPr/>
        </p:nvSpPr>
        <p:spPr>
          <a:xfrm flipH="1">
            <a:off x="373392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21"/>
          <p:cNvSpPr/>
          <p:nvPr/>
        </p:nvSpPr>
        <p:spPr>
          <a:xfrm flipH="1">
            <a:off x="373356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22"/>
          <p:cNvSpPr/>
          <p:nvPr/>
        </p:nvSpPr>
        <p:spPr>
          <a:xfrm flipV="1">
            <a:off x="3581280" y="43430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3581280" y="44956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7696080" y="236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6715080" y="190512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inalizacao do 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6"/>
          <p:cNvSpPr/>
          <p:nvPr/>
        </p:nvSpPr>
        <p:spPr>
          <a:xfrm flipH="1">
            <a:off x="716256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33399"/>
                </a:solidFill>
                <a:latin typeface="Tahoma"/>
                <a:ea typeface="宋体"/>
              </a:rPr>
              <a:t>5. Medição de correntes de Marés (Cont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12" descr="100_2813"/>
          <p:cNvPicPr/>
          <p:nvPr/>
        </p:nvPicPr>
        <p:blipFill>
          <a:blip r:embed="rId1"/>
          <a:stretch/>
        </p:blipFill>
        <p:spPr>
          <a:xfrm>
            <a:off x="4876920" y="1981080"/>
            <a:ext cx="4078080" cy="42674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754920" y="6284880"/>
            <a:ext cx="30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mento de instalacao do correntomet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482080" y="62038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ntometro instalad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17" descr="100_2916"/>
          <p:cNvPicPr/>
          <p:nvPr/>
        </p:nvPicPr>
        <p:blipFill>
          <a:blip r:embed="rId2"/>
          <a:stretch/>
        </p:blipFill>
        <p:spPr>
          <a:xfrm>
            <a:off x="762120" y="1981080"/>
            <a:ext cx="41907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6.Resultad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19320" y="1905120"/>
          <a:ext cx="7162560" cy="1371600"/>
        </p:xfrm>
        <a:graphic>
          <a:graphicData uri="http://schemas.openxmlformats.org/drawingml/2006/table">
            <a:tbl>
              <a:tblPr/>
              <a:tblGrid>
                <a:gridCol w="4244760"/>
                <a:gridCol w="1470240"/>
                <a:gridCol w="1447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: Canal de Inh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o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undidade (me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axima (cm/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edi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inim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219320" y="3505320"/>
          <a:ext cx="7162560" cy="1371600"/>
        </p:xfrm>
        <a:graphic>
          <a:graphicData uri="http://schemas.openxmlformats.org/drawingml/2006/table">
            <a:tbl>
              <a:tblPr/>
              <a:tblGrid>
                <a:gridCol w="4222800"/>
                <a:gridCol w="1492200"/>
                <a:gridCol w="1447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: Estreito da Ponta 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o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undidade (me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axima (cm/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edi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inim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219320" y="5105520"/>
          <a:ext cx="7162560" cy="1441440"/>
        </p:xfrm>
        <a:graphic>
          <a:graphicData uri="http://schemas.openxmlformats.org/drawingml/2006/table">
            <a:tbl>
              <a:tblPr/>
              <a:tblGrid>
                <a:gridCol w="4241520"/>
                <a:gridCol w="1473480"/>
                <a:gridCol w="1447560"/>
              </a:tblGrid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: Canal da Ponta 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o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é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undidade (me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axima (cm/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edi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ocidade Minima (cm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7.Constrangimen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82600" y="2017440"/>
            <a:ext cx="4075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intrumento foi removido antes de fazer 24 horas por operador turistic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instrumento ficou preso e teve que ficar durante 40 ho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8" descr="100_3088"/>
          <p:cNvPicPr/>
          <p:nvPr/>
        </p:nvPicPr>
        <p:blipFill>
          <a:blip r:embed="rId1"/>
          <a:stretch/>
        </p:blipFill>
        <p:spPr>
          <a:xfrm>
            <a:off x="5257800" y="18288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00_3298"/>
          <p:cNvPicPr/>
          <p:nvPr/>
        </p:nvPicPr>
        <p:blipFill>
          <a:blip r:embed="rId2"/>
          <a:stretch/>
        </p:blipFill>
        <p:spPr>
          <a:xfrm>
            <a:off x="5257800" y="434340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5479200" y="3922560"/>
            <a:ext cx="30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mento de recuperacao do instrumen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494320" y="6400800"/>
            <a:ext cx="31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mento de resgate do equipamento pres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8.Comcluso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nte maxima verifica-se na mare v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maiores correntes encontram-se no canal da Ponta T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la dimensao da costa Mocambicana ha poten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9.Recomendaco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coes financeiras de modo a participarmos em todo processo desta  pesquisas des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ar acordos com parceiros que estejam interesados em desenvolver estudos e tecnologias de estrcao de energias dos ocea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2546280" y="3124080"/>
            <a:ext cx="37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Tahoma"/>
              </a:rPr>
              <a:t>O B R I G A D O 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Tahoma"/>
                <a:ea typeface="宋体"/>
              </a:rPr>
              <a:t>1. Introdu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Foi conduzida pela Chalmers University of Tecnology, representada pelo Doutor Linus Hammar em coordenação com a Universidade Eduardo Mondlane, representada pelo Doutor Francisco Gemo Francisco onde a DNER representada pelo dr. Caixote participou como convid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A pesquisa consistiu na medição de correntes de marés em tres locais nomeadamente o canal da Inhaca proxima as barreiras vermelhas, estreito da ponta torres e canal da ponta torres estes dois ultimos locais estão ao longo do canal de Machangu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99"/>
                </a:solidFill>
                <a:latin typeface="Tahoma"/>
                <a:ea typeface="宋体"/>
              </a:rPr>
              <a:t>2. Objectiv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Objectivo G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Objectivos especificos</a:t>
            </a: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2.1.</a:t>
            </a:r>
            <a:r>
              <a:rPr b="1" lang="pt-PT" sz="3200" spc="-1" strike="noStrike">
                <a:solidFill>
                  <a:srgbClr val="333399"/>
                </a:solidFill>
                <a:latin typeface="Tahoma"/>
                <a:ea typeface="宋体"/>
              </a:rPr>
              <a:t>Objectivo Ger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Pesquisa e avaliação do potencial da energia das marés para produção de electricidade</a:t>
            </a:r>
            <a:r>
              <a:rPr b="0" lang="pt-PT" sz="3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2.2.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宋体"/>
              </a:rPr>
              <a:t>Objectivos especificos</a:t>
            </a:r>
            <a:r>
              <a:rPr b="0" lang="pt-PT" sz="3600" spc="-1" strike="noStrike">
                <a:solidFill>
                  <a:srgbClr val="333399"/>
                </a:solidFill>
                <a:latin typeface="Tahoma"/>
                <a:ea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Localização dos locais propos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Medir correntes de mar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宋体"/>
              </a:rPr>
              <a:t>Mapeamento dos locais identifi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99"/>
                </a:solidFill>
                <a:latin typeface="Tahoma"/>
                <a:ea typeface="宋体"/>
              </a:rPr>
              <a:t>2.2.1 Localização dos locais propos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11" descr="100_2918"/>
          <p:cNvPicPr/>
          <p:nvPr/>
        </p:nvPicPr>
        <p:blipFill>
          <a:blip r:embed="rId1"/>
          <a:stretch/>
        </p:blipFill>
        <p:spPr>
          <a:xfrm>
            <a:off x="4572000" y="1981080"/>
            <a:ext cx="4230720" cy="426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100_2992"/>
          <p:cNvPicPr/>
          <p:nvPr/>
        </p:nvPicPr>
        <p:blipFill>
          <a:blip r:embed="rId2"/>
          <a:stretch/>
        </p:blipFill>
        <p:spPr>
          <a:xfrm>
            <a:off x="53352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5"/>
          <p:cNvSpPr/>
          <p:nvPr/>
        </p:nvSpPr>
        <p:spPr>
          <a:xfrm>
            <a:off x="691200" y="640548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rco usado na pesqu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795200" y="6361200"/>
            <a:ext cx="338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memento da localizacao do local de estu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99"/>
                </a:solidFill>
                <a:latin typeface="Tahoma"/>
                <a:ea typeface="宋体"/>
              </a:rPr>
              <a:t>2.2.1. Localização dos locais propostos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宋体"/>
              </a:rPr>
              <a:t>(continuacao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870960" cy="4230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21920" y="3048120"/>
            <a:ext cx="95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nal de Inhac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6"/>
          <p:cNvSpPr/>
          <p:nvPr/>
        </p:nvSpPr>
        <p:spPr>
          <a:xfrm flipH="1">
            <a:off x="5790960" y="3124080"/>
            <a:ext cx="1904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696800" y="365760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streito da pont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res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8"/>
          <p:cNvSpPr/>
          <p:nvPr/>
        </p:nvSpPr>
        <p:spPr>
          <a:xfrm flipH="1">
            <a:off x="6248160" y="37339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697160" y="43434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nal da ponta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res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0"/>
          <p:cNvSpPr/>
          <p:nvPr/>
        </p:nvSpPr>
        <p:spPr>
          <a:xfrm flipH="1" flipV="1">
            <a:off x="6324480" y="411480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666800" y="6284880"/>
            <a:ext cx="222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pa da baia de Mapu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265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) Instrumentos para localizacao dos loca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6" descr="100_3053"/>
          <p:cNvPicPr/>
          <p:nvPr/>
        </p:nvPicPr>
        <p:blipFill>
          <a:blip r:embed="rId1"/>
          <a:stretch/>
        </p:blipFill>
        <p:spPr>
          <a:xfrm>
            <a:off x="5145120" y="1828800"/>
            <a:ext cx="3809880" cy="434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gps60_large"/>
          <p:cNvPicPr/>
          <p:nvPr/>
        </p:nvPicPr>
        <p:blipFill>
          <a:blip r:embed="rId2"/>
          <a:stretch/>
        </p:blipFill>
        <p:spPr>
          <a:xfrm>
            <a:off x="990720" y="1905120"/>
            <a:ext cx="411480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1297800" y="640548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S usado na pesqu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347080" y="63244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ar para medir profundidad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99"/>
                </a:solidFill>
                <a:latin typeface="Tahoma"/>
                <a:ea typeface="宋体"/>
              </a:rPr>
              <a:t>5. Medição de correntes das Maré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宋体"/>
              </a:rPr>
              <a:t>Correntes de marés na maré mo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宋体"/>
              </a:rPr>
              <a:t>Correntes de maré na maré  v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6" descr="100_2747"/>
          <p:cNvPicPr/>
          <p:nvPr/>
        </p:nvPicPr>
        <p:blipFill>
          <a:blip r:embed="rId1"/>
          <a:stretch/>
        </p:blipFill>
        <p:spPr>
          <a:xfrm>
            <a:off x="5791320" y="441972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100_2782"/>
          <p:cNvPicPr/>
          <p:nvPr/>
        </p:nvPicPr>
        <p:blipFill>
          <a:blip r:embed="rId2"/>
          <a:stretch/>
        </p:blipFill>
        <p:spPr>
          <a:xfrm>
            <a:off x="5791320" y="18288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5857920" y="37702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ante a more mor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934600" y="636120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ante a mare viv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0:01:12Z</dcterms:created>
  <dc:creator>psc</dc:creator>
  <dc:description/>
  <dc:language>en-US</dc:language>
  <cp:lastModifiedBy>user</cp:lastModifiedBy>
  <dcterms:modified xsi:type="dcterms:W3CDTF">2012-08-02T13:55:04Z</dcterms:modified>
  <cp:revision>12</cp:revision>
  <dc:subject/>
  <dc:title>Diapositivo 1</dc:title>
</cp:coreProperties>
</file>